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9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1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38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12.png" ContentType="image/png"/>
  <Override PartName="/ppt/media/image36.png" ContentType="image/png"/>
  <Override PartName="/ppt/media/image31.jpeg" ContentType="image/jpeg"/>
  <Override PartName="/ppt/media/image25.png" ContentType="image/png"/>
  <Override PartName="/ppt/media/image4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5.jpeg" ContentType="image/jpeg"/>
  <Override PartName="/ppt/media/image4.jpeg" ContentType="image/jpeg"/>
  <Override PartName="/ppt/media/image4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94B5-8551-414B-BDEA-182EF49784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913F-83B5-42BC-8704-96123CC317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44B5-8709-4727-B4CA-8BB4A942ED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7400-D7E2-49F9-839B-42D4A3FF38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D2D-4077-4987-9B1E-11678D31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D32-C5B3-406B-B3CB-5F9233E7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1F974-9956-4150-9FA0-FCCA61A6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17B5F-7C11-4C75-9EF0-E3C9FAC1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5FEF4-A8D2-403F-AD20-1AD8EC92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D4C1E-D677-4FDB-88AC-F9BB569F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89788-2FF3-4EE9-90EE-BD40D90A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FF36E-6CFF-4AAE-BA3C-05A87B41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C75A6-E9A5-4E0D-B3B0-FCF843E8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27200-0A5A-49BD-BC9C-A91CBBE0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E333F-E118-47F4-8CF5-CF53A702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C9D8E-5494-44C4-9F3A-32954526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F3A-A3E3-45F0-BA05-38B89878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7F68C6-C63D-443F-9F62-DE24D57E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7DF67-BDBB-490F-998F-FE61E5FD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D11BF-9C37-437B-AB69-503A8183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F7EACF-028C-48E6-AD84-FFC11001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432FF-7E4E-4B02-BFC5-C9F0708B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0DCBE-19A5-42B4-AB28-41FED63A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C58EF-3929-403A-85DA-101EBA41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6532E-DFE9-424B-A0C6-BC465886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1DD58-B387-4E0D-9AA6-598AAC66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7017DE-601B-4806-B58E-EF33250B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B94-146D-495A-9E12-7155C797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8A681-E753-4C91-BC98-C7963391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8EA91-BBA1-4519-A410-05544C38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F9F42-1600-499C-BD43-16B6EE59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AC61A-E32F-4DFF-9B6D-8C34CFFD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9B571-6B17-44F7-BFEB-A14C5ABB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5DEA4-E36D-472B-BF37-CF7888B1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A0383-74A8-457F-AD42-05505DB9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DF34F-40F0-4700-8A24-761D3E3F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93620-473A-4F54-ACB2-8DAE8873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8D0E4-8432-4827-8D60-A589C7BE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CDCC-6BA3-4FF9-B676-8ED3B944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CFCD8-271A-43EE-AEAE-45B27F3F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48A3D-017E-4E64-A319-6F8A303D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AF297-C974-48B6-9D2C-DAF1FA07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E83042-F853-49E2-A2D7-B99BD985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465EE-A344-49CD-8CF5-46622241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F55A39-6559-413D-B1A5-8C496804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070DC-EFD6-4DDD-9755-7F9FD748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E0863-FE04-4437-95AD-A154465E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E39F8-97E7-457D-8055-798272E5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E69A3-91CA-4108-9D97-D7D8D7C8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9D63-D5C7-4847-A595-837CE135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25B01-A29F-44AE-90C6-ACD71007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9B87E9-5F54-4BCD-902B-893114AA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C46AA-5970-4F42-AAE3-D99AC094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FB3E2-4237-4221-8F23-DF21D726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CC469-099F-4EB0-852A-DA18710B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7A07-5066-4312-8AF6-174C3B95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7D65-29AE-490E-A377-90AAAB48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DDBF-EC5E-426B-8945-D697554C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7139-AB0E-42C2-8627-2ECA9405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7882-36D6-4BE2-9C79-09A26918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A7B-2047-46D9-BE3B-84921232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7C0C-BC1C-4D54-9290-CDA5454D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3CEA-8B5C-47E6-9F33-4446C1AD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9289-1B57-4C95-B5B1-5A9C7F2C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FD37-48D0-46E2-B468-D9B70E9C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5B7C-901D-4F21-8E39-297A3274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089BB-A513-4665-ACA6-6874DAB8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63DD5-6AC0-46DE-9A5F-20596C29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318A-ACFC-4FA9-8AA0-9355B2DB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DEA8-5D2B-4298-8849-97078449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E870-6A71-409B-A773-23387007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0A0-5C76-4CD6-AC8C-B859A8C4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4672D-F9C6-46BC-8198-1B8A0882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09831-F6F5-48A1-890D-A6E362BB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EF42-9D63-43BA-834A-5CDD380F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6B08C-6283-448C-BEA4-9DCA4442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A3666-280D-41BD-B1E9-A80D4FF2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47D56-5B9D-4249-90A9-318A7119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7B5CC-85E0-4541-82B2-564D6E8A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3897A-9996-41F0-9D0B-D6DED8D8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106B0-7A83-477B-ABAC-AA322DFE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B7854-1F5C-48A6-8C77-D7028EEA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183-9910-4DEA-9CEC-1E3F6572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97C27-E369-46CC-B4E1-E6933C65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1F38C-BB92-48EF-B889-E43D17BB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BF4E4-A847-4899-BDFB-D2510ACB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4FA42-4D51-4A87-91DB-B628D2DB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BDA86-8D40-4A63-94EF-5B4F9964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AD418-FBC3-4E44-953B-2E68C6D7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83633-5E8F-46B8-861D-593E0F12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758CD-DD41-4E51-8B62-F5C758D7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AB4CE-7690-4078-9973-73CFBB9D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43033-F75A-4D24-85BC-A18ED974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6E1-920F-46E3-B18C-7CAE8E03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8EE98-2295-492E-9451-2486BD12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2E8ED-48F9-410B-82C7-F9E220BD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29FC8-C1C0-40E2-B747-87B9B7BA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2FBF8-02E3-4D3D-A726-B257C2AA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E1783-90EC-4CED-B87C-EE565ED1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BF986-E89F-4461-8670-37E645A4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B68F1-643C-4650-8F00-4E6EE9F3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210E4-D9E4-4988-8DE6-41B13DF3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60E8E-B3D1-4694-8EC1-25B26ABE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B9F51-B657-4EBC-965F-32794E74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E1D-B7C2-4EEC-BE06-8394EFE2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0575B-3861-4B0B-B169-EAEDCA80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1474E-2615-400E-90F7-3B219133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956DD-CF5F-41CD-A656-F6729933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EC6A6-0421-4E8E-92E2-6502417C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ED071-D00F-4ED7-B8E1-615E9E17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BBB02-A411-4628-B584-9D1410ED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5A7E6-6866-4F6F-A8E6-17E264B4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FAB09-4E0F-419D-B386-1F700B57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66ACE-988A-487B-853F-F41B4CCB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DBB5A-9472-4435-81D1-7C8C2413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D6A-E884-4507-B757-1DB8A680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1A436-310B-41E3-BA85-DC2C7013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63151-73DC-40DE-97FA-F0E36664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05715-A2EE-46EE-927E-F10C9BED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9BCDA-B190-4EBF-A082-DE4F4A1F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FDF2A-C1B9-4A15-B103-20A87EAC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FE4C4-08DB-4BB3-8C0E-A9FBE125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87F50-FAF9-4DE5-B1BE-3EFADDC5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86FBA-BE40-416B-9542-D88908BE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DDCFD-2B72-4BE3-B0BE-646145CB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AB134-0C18-4995-90BC-64702940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583-9C95-4269-A05C-98BE8001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31034-01DC-43DE-AF93-9160B90A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0CDDA-8195-4265-A7B9-7DE0A887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F20F5-8785-4775-9DDE-34F28411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BD50C-36F8-4FA7-B819-4DBB48EE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EC3E9-C498-48B0-B9BF-3EC2B024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0CA20-C698-4909-AABF-C282E3EE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B9F88-9464-4A97-A176-99A9271B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2A3E1-11B8-4E6D-9A11-35167B10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295D0-FC9E-4F42-B5FD-8F31A48D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076FE-5FB0-4871-8AC6-F444E649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77A-55E1-4E87-A211-42A66FBF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472DA-E957-4A07-B08B-BF2D5B56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4F390-0CA0-48A5-A561-5C904E1C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A75FB-F334-487B-B810-73221751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FC928-55CC-498D-8209-C235073A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30CAE-0A8F-4CD6-946F-83A6F67E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AB711-E715-4975-A5BC-17A7EB44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00D50-25D9-4E23-AD11-1AD38C4F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E3A0A-C1D6-47E5-B891-9960AECC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AAC9A-9410-4EC8-A923-C1B8BF93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E2AC2-7156-4D3E-A074-B6F37467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764E-57A5-468F-A4C3-6A81BF8D1D3B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415D-D1B0-4336-BAB4-66C6ED10B9D3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D096-83A8-476B-87C9-711B5EA34FE2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43E8-8A65-4675-A1A3-DBCB4071CF91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AF33-94D6-46E5-BAC5-6F72C230BF96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6133-1512-49CD-B4EC-480C7FB09F81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732C-E05A-4240-8DA4-5CF5A69A2A70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EEAC-53AD-40F9-82B9-AE6EF4BE9193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68A9-2AD7-4DA6-A800-E99F9AE05C68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8BC6-12A6-4AF2-8D40-1EF83C0BDE49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0E7E-AE3F-403C-8AF9-B845EDDF49F5}" type="slidenum">
              <a:rPr b="0" lang="en-GB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15B6-74E5-4E9D-9F67-D03E3F492FAC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7" descr="KiwiYogurtsmoothie.jpg"/>
          <p:cNvPicPr/>
          <p:nvPr/>
        </p:nvPicPr>
        <p:blipFill>
          <a:blip r:embed="rId1"/>
          <a:stretch/>
        </p:blipFill>
        <p:spPr>
          <a:xfrm>
            <a:off x="0" y="-171360"/>
            <a:ext cx="9947160" cy="712944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Georgia"/>
              </a:rPr>
              <a:t>GROUP B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Georgia"/>
              </a:rPr>
              <a:t>MARIANNA CHRISTOFI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eorgia"/>
              </a:rPr>
              <a:t>YASHORAJVARDHINI NIMBALKAR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eorgia"/>
              </a:rPr>
              <a:t>HUIYING SHANG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eorgia"/>
              </a:rPr>
              <a:t>RONG LU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eorgia"/>
              </a:rPr>
              <a:t>ZHUN WANG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Food 5450M Industrial Project: Food Innovation</a:t>
            </a:r>
            <a:br>
              <a:rPr sz="2800"/>
            </a:br>
            <a:br>
              <a:rPr sz="3800"/>
            </a:br>
            <a:r>
              <a:rPr b="0" i="1" lang="en-GB" sz="3600" spc="-1" strike="noStrike">
                <a:solidFill>
                  <a:srgbClr val="e46c0a"/>
                </a:solidFill>
                <a:latin typeface="Georgia"/>
              </a:rPr>
              <a:t>Yogurt based food: </a:t>
            </a:r>
            <a:r>
              <a:rPr b="0" lang="en-GB" sz="3600" spc="-1" strike="noStrike">
                <a:solidFill>
                  <a:srgbClr val="e46c0a"/>
                </a:solidFill>
                <a:latin typeface="Georgia"/>
              </a:rPr>
              <a:t>‘Soy yogurt drink with kiwi Flavour’ </a:t>
            </a: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e46c0a"/>
                </a:solidFill>
                <a:latin typeface="Georgia"/>
              </a:rPr>
              <a:t>Unit III: </a:t>
            </a:r>
            <a:r>
              <a:rPr b="0" lang="en-GB" sz="3800" spc="-1" strike="noStrike">
                <a:solidFill>
                  <a:srgbClr val="e46c0a"/>
                </a:solidFill>
                <a:latin typeface="Georgia"/>
              </a:rPr>
              <a:t>Defining product and process specifications </a:t>
            </a:r>
            <a:endParaRPr b="0" lang="en-US" sz="38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6" name="TextBox 3"/>
          <p:cNvSpPr/>
          <p:nvPr/>
        </p:nvSpPr>
        <p:spPr>
          <a:xfrm>
            <a:off x="8459640" y="620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Georgia"/>
              </a:rPr>
              <a:t>Laboratory Process Flowchart – </a:t>
            </a:r>
            <a:r>
              <a:rPr b="0" i="1" lang="en-US" sz="3200" spc="-1" strike="noStrike">
                <a:solidFill>
                  <a:srgbClr val="e46c0a"/>
                </a:solidFill>
                <a:latin typeface="Georgia"/>
              </a:rPr>
              <a:t>Kiwi juice extraction</a:t>
            </a:r>
            <a:endParaRPr b="0" lang="en-US" sz="3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52" name="Content Placeholder 3" descr=""/>
          <p:cNvPicPr/>
          <p:nvPr/>
        </p:nvPicPr>
        <p:blipFill>
          <a:blip r:embed="rId1"/>
          <a:stretch/>
        </p:blipFill>
        <p:spPr>
          <a:xfrm>
            <a:off x="237960" y="1523880"/>
            <a:ext cx="8577360" cy="4584960"/>
          </a:xfrm>
          <a:prstGeom prst="rect">
            <a:avLst/>
          </a:prstGeom>
          <a:ln w="0">
            <a:noFill/>
          </a:ln>
        </p:spPr>
      </p:pic>
      <p:sp>
        <p:nvSpPr>
          <p:cNvPr id="653" name="Right Arrow 4"/>
          <p:cNvSpPr/>
          <p:nvPr/>
        </p:nvSpPr>
        <p:spPr>
          <a:xfrm>
            <a:off x="179280" y="321300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57709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ight Arrow 5"/>
          <p:cNvSpPr/>
          <p:nvPr/>
        </p:nvSpPr>
        <p:spPr>
          <a:xfrm>
            <a:off x="8532720" y="3141720"/>
            <a:ext cx="360360" cy="35856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e57709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</a:rPr>
              <a:t>Laboratory Process Flowchart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56" name="Content Placeholder 3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8523360" cy="4584960"/>
          </a:xfrm>
          <a:prstGeom prst="rect">
            <a:avLst/>
          </a:prstGeom>
          <a:ln w="0">
            <a:noFill/>
          </a:ln>
        </p:spPr>
      </p:pic>
      <p:pic>
        <p:nvPicPr>
          <p:cNvPr id="657" name="Diagram 6" descr=""/>
          <p:cNvPicPr/>
          <p:nvPr/>
        </p:nvPicPr>
        <p:blipFill>
          <a:blip r:embed="rId2"/>
          <a:stretch/>
        </p:blipFill>
        <p:spPr>
          <a:xfrm>
            <a:off x="1481040" y="1335240"/>
            <a:ext cx="6973920" cy="4078080"/>
          </a:xfrm>
          <a:prstGeom prst="rect">
            <a:avLst/>
          </a:prstGeom>
          <a:ln w="0">
            <a:noFill/>
          </a:ln>
        </p:spPr>
      </p:pic>
      <p:sp>
        <p:nvSpPr>
          <p:cNvPr id="658" name="Right Arrow 7"/>
          <p:cNvSpPr/>
          <p:nvPr/>
        </p:nvSpPr>
        <p:spPr>
          <a:xfrm>
            <a:off x="250920" y="2708280"/>
            <a:ext cx="576000" cy="36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7709"/>
                </a:solidFill>
                <a:latin typeface="Georgia"/>
              </a:rPr>
              <a:t>Industrial Flow Char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1" name="Picture 3" descr="15209342-kiwi-and-yoghurt.jpg"/>
          <p:cNvPicPr/>
          <p:nvPr/>
        </p:nvPicPr>
        <p:blipFill>
          <a:blip r:embed="rId1"/>
          <a:stretch/>
        </p:blipFill>
        <p:spPr>
          <a:xfrm>
            <a:off x="3564000" y="3789360"/>
            <a:ext cx="180000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Industrial processing carries three lin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Flowchart: Alternate Process 7"/>
          <p:cNvSpPr/>
          <p:nvPr/>
        </p:nvSpPr>
        <p:spPr>
          <a:xfrm>
            <a:off x="755640" y="4076640"/>
            <a:ext cx="2087640" cy="720720"/>
          </a:xfrm>
          <a:prstGeom prst="flowChartAlternateProcess">
            <a:avLst/>
          </a:prstGeom>
          <a:solidFill>
            <a:srgbClr val="fbd8c8"/>
          </a:solidFill>
          <a:ln w="9360">
            <a:solidFill>
              <a:srgbClr val="f79646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ws yog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lowchart: Alternate Process 8"/>
          <p:cNvSpPr/>
          <p:nvPr/>
        </p:nvSpPr>
        <p:spPr>
          <a:xfrm>
            <a:off x="4067280" y="4076640"/>
            <a:ext cx="1944720" cy="647640"/>
          </a:xfrm>
          <a:prstGeom prst="flowChartAlternateProcess">
            <a:avLst/>
          </a:prstGeom>
          <a:solidFill>
            <a:srgbClr val="fac090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oy yog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lowchart: Alternate Process 9"/>
          <p:cNvSpPr/>
          <p:nvPr/>
        </p:nvSpPr>
        <p:spPr>
          <a:xfrm>
            <a:off x="6948360" y="4005360"/>
            <a:ext cx="1944720" cy="647640"/>
          </a:xfrm>
          <a:prstGeom prst="flowChartAlternateProcess">
            <a:avLst/>
          </a:prstGeom>
          <a:solidFill>
            <a:srgbClr val="92d050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Kiwi ju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own Arrow 11"/>
          <p:cNvSpPr/>
          <p:nvPr/>
        </p:nvSpPr>
        <p:spPr>
          <a:xfrm>
            <a:off x="4643280" y="2492280"/>
            <a:ext cx="576360" cy="9795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Down Arrow 12"/>
          <p:cNvSpPr/>
          <p:nvPr/>
        </p:nvSpPr>
        <p:spPr>
          <a:xfrm>
            <a:off x="7667640" y="2492280"/>
            <a:ext cx="649440" cy="97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Down Arrow 13"/>
          <p:cNvSpPr/>
          <p:nvPr/>
        </p:nvSpPr>
        <p:spPr>
          <a:xfrm>
            <a:off x="1547640" y="2565360"/>
            <a:ext cx="576360" cy="9349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46c0a"/>
                </a:solidFill>
                <a:latin typeface="Georgia"/>
              </a:rPr>
              <a:t>Cows yogurt and Soy yogurt (Line 1 and 2)</a:t>
            </a:r>
            <a:endParaRPr b="0" lang="en-US" sz="3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71" name="Content Placeholder 3" descr=""/>
          <p:cNvPicPr/>
          <p:nvPr/>
        </p:nvPicPr>
        <p:blipFill>
          <a:blip r:embed="rId1"/>
          <a:stretch/>
        </p:blipFill>
        <p:spPr>
          <a:xfrm>
            <a:off x="396720" y="1122480"/>
            <a:ext cx="8350560" cy="5010120"/>
          </a:xfrm>
          <a:prstGeom prst="rect">
            <a:avLst/>
          </a:prstGeom>
          <a:ln w="0">
            <a:noFill/>
          </a:ln>
        </p:spPr>
      </p:pic>
      <p:sp>
        <p:nvSpPr>
          <p:cNvPr id="672" name="Right Arrow 5"/>
          <p:cNvSpPr/>
          <p:nvPr/>
        </p:nvSpPr>
        <p:spPr>
          <a:xfrm>
            <a:off x="8459640" y="2276640"/>
            <a:ext cx="505080" cy="288720"/>
          </a:xfrm>
          <a:prstGeom prst="rightArrow">
            <a:avLst>
              <a:gd name="adj1" fmla="val 50000"/>
              <a:gd name="adj2" fmla="val 50060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46c0a"/>
                </a:solidFill>
                <a:latin typeface="Georgia"/>
              </a:rPr>
              <a:t>Cows yogurt and Soy yogurt (Line 1 and 2)</a:t>
            </a:r>
            <a:endParaRPr b="0" lang="en-US" sz="3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74" name="Content Placeholder 3" descr=""/>
          <p:cNvPicPr/>
          <p:nvPr/>
        </p:nvPicPr>
        <p:blipFill>
          <a:blip r:embed="rId1"/>
          <a:stretch/>
        </p:blipFill>
        <p:spPr>
          <a:xfrm>
            <a:off x="237960" y="1494000"/>
            <a:ext cx="8607600" cy="4614840"/>
          </a:xfrm>
          <a:prstGeom prst="rect">
            <a:avLst/>
          </a:prstGeom>
          <a:ln w="0">
            <a:noFill/>
          </a:ln>
        </p:spPr>
      </p:pic>
      <p:sp>
        <p:nvSpPr>
          <p:cNvPr id="675" name="Right Arrow 4"/>
          <p:cNvSpPr/>
          <p:nvPr/>
        </p:nvSpPr>
        <p:spPr>
          <a:xfrm>
            <a:off x="0" y="1916280"/>
            <a:ext cx="468360" cy="28872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e46c0a"/>
                </a:solidFill>
                <a:latin typeface="Georgia"/>
              </a:rPr>
              <a:t>Kiwi juice (Line 3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77" name="Content Placeholder 3" descr=""/>
          <p:cNvPicPr/>
          <p:nvPr/>
        </p:nvPicPr>
        <p:blipFill>
          <a:blip r:embed="rId1"/>
          <a:stretch/>
        </p:blipFill>
        <p:spPr>
          <a:xfrm>
            <a:off x="244440" y="1523880"/>
            <a:ext cx="8618400" cy="4584960"/>
          </a:xfrm>
          <a:prstGeom prst="rect">
            <a:avLst/>
          </a:prstGeom>
          <a:ln w="0">
            <a:noFill/>
          </a:ln>
        </p:spPr>
      </p:pic>
      <p:sp>
        <p:nvSpPr>
          <p:cNvPr id="678" name="Right Arrow 6"/>
          <p:cNvSpPr/>
          <p:nvPr/>
        </p:nvSpPr>
        <p:spPr>
          <a:xfrm>
            <a:off x="8317080" y="2492280"/>
            <a:ext cx="647640" cy="3603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e46c0a"/>
                </a:solidFill>
                <a:latin typeface="Georgia"/>
              </a:rPr>
              <a:t>Kiwi juice (Line 3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80" name="Content Placeholder 3" descr=""/>
          <p:cNvPicPr/>
          <p:nvPr/>
        </p:nvPicPr>
        <p:blipFill>
          <a:blip r:embed="rId1"/>
          <a:stretch/>
        </p:blipFill>
        <p:spPr>
          <a:xfrm>
            <a:off x="298440" y="1523880"/>
            <a:ext cx="8516880" cy="4584960"/>
          </a:xfrm>
          <a:prstGeom prst="rect">
            <a:avLst/>
          </a:prstGeom>
          <a:ln w="0">
            <a:noFill/>
          </a:ln>
        </p:spPr>
      </p:pic>
      <p:sp>
        <p:nvSpPr>
          <p:cNvPr id="681" name="Right Arrow 4"/>
          <p:cNvSpPr/>
          <p:nvPr/>
        </p:nvSpPr>
        <p:spPr>
          <a:xfrm>
            <a:off x="0" y="2708280"/>
            <a:ext cx="539640" cy="3603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ight Arrow 5"/>
          <p:cNvSpPr/>
          <p:nvPr/>
        </p:nvSpPr>
        <p:spPr>
          <a:xfrm>
            <a:off x="8532720" y="2708280"/>
            <a:ext cx="611280" cy="433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e46c0a"/>
                </a:solidFill>
                <a:latin typeface="Georgia"/>
              </a:rPr>
              <a:t>Kiwi juice (Line 3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84" name="Content Placeholder 3" descr=""/>
          <p:cNvPicPr/>
          <p:nvPr/>
        </p:nvPicPr>
        <p:blipFill>
          <a:blip r:embed="rId1"/>
          <a:stretch/>
        </p:blipFill>
        <p:spPr>
          <a:xfrm>
            <a:off x="237960" y="1523880"/>
            <a:ext cx="8631360" cy="4584960"/>
          </a:xfrm>
          <a:prstGeom prst="rect">
            <a:avLst/>
          </a:prstGeom>
          <a:ln w="0">
            <a:noFill/>
          </a:ln>
        </p:spPr>
      </p:pic>
      <p:sp>
        <p:nvSpPr>
          <p:cNvPr id="685" name="Right Arrow 4"/>
          <p:cNvSpPr/>
          <p:nvPr/>
        </p:nvSpPr>
        <p:spPr>
          <a:xfrm>
            <a:off x="0" y="2565360"/>
            <a:ext cx="46836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ight Arrow 5"/>
          <p:cNvSpPr/>
          <p:nvPr/>
        </p:nvSpPr>
        <p:spPr>
          <a:xfrm>
            <a:off x="8532720" y="2492280"/>
            <a:ext cx="50328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e46c0a"/>
                </a:solidFill>
                <a:latin typeface="Georgia"/>
              </a:rPr>
              <a:t>Kiwi juice (Line 3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88" name="Content Placeholder 3" descr=""/>
          <p:cNvPicPr/>
          <p:nvPr/>
        </p:nvPicPr>
        <p:blipFill>
          <a:blip r:embed="rId1"/>
          <a:stretch/>
        </p:blipFill>
        <p:spPr>
          <a:xfrm>
            <a:off x="237960" y="1523880"/>
            <a:ext cx="8631360" cy="4584960"/>
          </a:xfrm>
          <a:prstGeom prst="rect">
            <a:avLst/>
          </a:prstGeom>
          <a:ln w="0">
            <a:noFill/>
          </a:ln>
        </p:spPr>
      </p:pic>
      <p:sp>
        <p:nvSpPr>
          <p:cNvPr id="689" name="Right Arrow 4"/>
          <p:cNvSpPr/>
          <p:nvPr/>
        </p:nvSpPr>
        <p:spPr>
          <a:xfrm>
            <a:off x="0" y="2708280"/>
            <a:ext cx="468360" cy="4334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ight Arrow 5"/>
          <p:cNvSpPr/>
          <p:nvPr/>
        </p:nvSpPr>
        <p:spPr>
          <a:xfrm>
            <a:off x="8675640" y="2565360"/>
            <a:ext cx="46836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39160" cy="69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46c0a"/>
                </a:solidFill>
                <a:latin typeface="Georgia"/>
              </a:rPr>
              <a:t>Introductio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39640" y="1483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Aim :</a:t>
            </a: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develop and optimize the final product  defining the product and process specifications  b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developing the process and  equipment flowchart according to legislation specific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conducting consumer sensory and descriptive analysi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e46c0a"/>
                </a:solidFill>
                <a:latin typeface="Georgia"/>
              </a:rPr>
              <a:t>Kiwi juice (Line 3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92" name="Content Placeholder 3" descr=""/>
          <p:cNvPicPr/>
          <p:nvPr/>
        </p:nvPicPr>
        <p:blipFill>
          <a:blip r:embed="rId1"/>
          <a:stretch/>
        </p:blipFill>
        <p:spPr>
          <a:xfrm>
            <a:off x="249120" y="1523880"/>
            <a:ext cx="8609040" cy="4584960"/>
          </a:xfrm>
          <a:prstGeom prst="rect">
            <a:avLst/>
          </a:prstGeom>
          <a:ln w="0">
            <a:noFill/>
          </a:ln>
        </p:spPr>
      </p:pic>
      <p:sp>
        <p:nvSpPr>
          <p:cNvPr id="693" name="Right Arrow 4"/>
          <p:cNvSpPr/>
          <p:nvPr/>
        </p:nvSpPr>
        <p:spPr>
          <a:xfrm>
            <a:off x="0" y="2637000"/>
            <a:ext cx="539640" cy="4316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ight Arrow 5"/>
          <p:cNvSpPr/>
          <p:nvPr/>
        </p:nvSpPr>
        <p:spPr>
          <a:xfrm>
            <a:off x="8532720" y="263700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e46c0a"/>
                </a:solidFill>
                <a:latin typeface="Georgia"/>
              </a:rPr>
              <a:t>Kiwi juice (Line 3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96" name="Content Placeholder 3" descr=""/>
          <p:cNvPicPr/>
          <p:nvPr/>
        </p:nvPicPr>
        <p:blipFill>
          <a:blip r:embed="rId1"/>
          <a:stretch/>
        </p:blipFill>
        <p:spPr>
          <a:xfrm>
            <a:off x="237960" y="1523880"/>
            <a:ext cx="8601120" cy="4668840"/>
          </a:xfrm>
          <a:prstGeom prst="rect">
            <a:avLst/>
          </a:prstGeom>
          <a:ln w="0">
            <a:noFill/>
          </a:ln>
        </p:spPr>
      </p:pic>
      <p:sp>
        <p:nvSpPr>
          <p:cNvPr id="697" name="Right Arrow 4"/>
          <p:cNvSpPr/>
          <p:nvPr/>
        </p:nvSpPr>
        <p:spPr>
          <a:xfrm>
            <a:off x="0" y="2349360"/>
            <a:ext cx="539640" cy="3589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933c"/>
                </a:solidFill>
                <a:latin typeface="Georgia"/>
              </a:rPr>
              <a:t>                  </a:t>
            </a:r>
            <a:r>
              <a:rPr b="0" lang="en-GB" sz="4400" spc="-1" strike="noStrike">
                <a:solidFill>
                  <a:srgbClr val="e57709"/>
                </a:solidFill>
                <a:latin typeface="Georgia"/>
              </a:rPr>
              <a:t>Equipmen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e46c0a"/>
                </a:solidFill>
                <a:latin typeface="Georgia"/>
              </a:rPr>
              <a:t>Equipments Selection Principl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Capacity    5000----10000 units 2500l/d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Standar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Processing requirem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CI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M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HACC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Co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01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e46c0a"/>
                </a:solidFill>
                <a:latin typeface="Georgia"/>
              </a:rPr>
              <a:t>Equipment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403280" y="2565000"/>
            <a:ext cx="640080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4f81bd"/>
                </a:solidFill>
                <a:latin typeface="Georgia"/>
              </a:rPr>
              <a:t> </a:t>
            </a:r>
            <a:r>
              <a:rPr b="1" lang="en-GB" sz="1700" spc="-1" strike="noStrike">
                <a:solidFill>
                  <a:srgbClr val="4f81bd"/>
                </a:solidFill>
                <a:latin typeface="Georgia"/>
              </a:rPr>
              <a:t>TANKS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STORAGE TANK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FERMENTATION TANK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MULTIPURPOSE TANK; FERMENTATION ONLY TANK;FERMENTATION/COOLING TANK   2500LITER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         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4f81bd"/>
                </a:solidFill>
                <a:latin typeface="Georgia"/>
              </a:rPr>
              <a:t> </a:t>
            </a:r>
            <a:r>
              <a:rPr b="1" lang="en-GB" sz="1700" spc="-1" strike="noStrike">
                <a:solidFill>
                  <a:srgbClr val="4f81bd"/>
                </a:solidFill>
                <a:latin typeface="Georgia"/>
              </a:rPr>
              <a:t>SEPARATOR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THE TS-500-O SEPARATOR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THE FINAL FAT CONTENT OF THE PROCESS MILK IS WITHIN PRESET LIMITS (FROM 0% TO 3.5% 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7716960" y="0"/>
            <a:ext cx="1427040" cy="227664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22320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4" descr=""/>
          <p:cNvPicPr/>
          <p:nvPr/>
        </p:nvPicPr>
        <p:blipFill>
          <a:blip r:embed="rId3"/>
          <a:stretch/>
        </p:blipFill>
        <p:spPr>
          <a:xfrm>
            <a:off x="0" y="4724280"/>
            <a:ext cx="1403280" cy="21337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" descr=""/>
          <p:cNvPicPr/>
          <p:nvPr/>
        </p:nvPicPr>
        <p:blipFill>
          <a:blip r:embed="rId4"/>
          <a:stretch/>
        </p:blipFill>
        <p:spPr>
          <a:xfrm>
            <a:off x="7734240" y="4292640"/>
            <a:ext cx="14097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46c0a"/>
                </a:solidFill>
                <a:latin typeface="Georgia"/>
              </a:rPr>
              <a:t>Equipment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f81bd"/>
                </a:solidFill>
                <a:latin typeface="Georgia"/>
              </a:rPr>
              <a:t>Bath pasteruriz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500-1,000 L/Batch,65°C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f81bd"/>
                </a:solidFill>
                <a:latin typeface="Georgia"/>
              </a:rPr>
              <a:t>Homogeniz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e TH-025 homogenizer ,500L per hour 0-65°C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f81bd"/>
                </a:solidFill>
                <a:latin typeface="Georgia"/>
              </a:rPr>
              <a:t>Cooling syste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e cooling system (TC-6000) temperature ranges from 2-4°C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f81bd"/>
                </a:solidFill>
                <a:latin typeface="Georgia"/>
              </a:rPr>
              <a:t>Filling machin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e Dogaseptic seri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f81bd"/>
                </a:solidFill>
                <a:latin typeface="Georgia"/>
              </a:rPr>
              <a:t>Blen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Gasti DOGAmix 60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0" name="Picture 2" descr="\\ds.leeds.ac.uk\student\student42\fs10zw\My Pictures\BatchPast2.jpg"/>
          <p:cNvPicPr/>
          <p:nvPr/>
        </p:nvPicPr>
        <p:blipFill>
          <a:blip r:embed="rId1"/>
          <a:stretch/>
        </p:blipFill>
        <p:spPr>
          <a:xfrm>
            <a:off x="7885080" y="0"/>
            <a:ext cx="1117800" cy="14605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\\ds.leeds.ac.uk\student\student42\fs10zw\My Pictures\High_Pressure_Homogenizer.jpg"/>
          <p:cNvPicPr/>
          <p:nvPr/>
        </p:nvPicPr>
        <p:blipFill>
          <a:blip r:embed="rId2"/>
          <a:stretch/>
        </p:blipFill>
        <p:spPr>
          <a:xfrm>
            <a:off x="6804000" y="4005360"/>
            <a:ext cx="1978200" cy="22939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" descr="USGCCAFTK4QNCAJATV87CA4GNQ0XCA3IMF68CAS39P37CABCLPJOCAOLRDZQCAC8EZV5CATX0NA9CAEEPLXFCAWZ8B1ZCAP2GDF5CA0WPPQDCAJ9RO1ICA6G6MWMCA62FYZKCANSTWLFCAGPLIYXCAL58IWL.jpg"/>
          <p:cNvPicPr/>
          <p:nvPr/>
        </p:nvPicPr>
        <p:blipFill>
          <a:blip r:embed="rId3"/>
          <a:stretch/>
        </p:blipFill>
        <p:spPr>
          <a:xfrm>
            <a:off x="611280" y="260280"/>
            <a:ext cx="12967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50920" y="7984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GB" sz="3600" spc="-1" strike="noStrike">
                <a:solidFill>
                  <a:srgbClr val="e46c0a"/>
                </a:solidFill>
                <a:latin typeface="Georgia"/>
              </a:rPr>
              <a:t>Equipment</a:t>
            </a:r>
            <a:br>
              <a:rPr sz="3600"/>
            </a:b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f81bd"/>
                </a:solidFill>
                <a:latin typeface="Georgia"/>
              </a:rPr>
              <a:t>Deaera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FrymaKoruma Vacuum Deaerating Unit type V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f81bd"/>
                </a:solidFill>
                <a:latin typeface="Georgia"/>
              </a:rPr>
              <a:t>Labelling machin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Heat exchange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plate heat exchanger (PHE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tubular heat exchanger, including the multitube or multichannel desig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scraped/swept surface heat exchanger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f81bd"/>
                </a:solidFill>
                <a:latin typeface="Georgia"/>
              </a:rPr>
              <a:t>CIP system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5" name="Picture 3" descr="69R1CADCWPZCCAI1F621CAJHA0PPCAQIB5HICALC3LD1CAH9ODXICAFITMJNCA64K9CQCA6UCZMOCA55QAS2CAAAHK8DCAOLSBIICAT9N0AJCAL64UYECAS2VTFZCAT6Y1NPCA1ZJW11CAZD73MTCA0EALE4.jpg"/>
          <p:cNvPicPr/>
          <p:nvPr/>
        </p:nvPicPr>
        <p:blipFill>
          <a:blip r:embed="rId1"/>
          <a:stretch/>
        </p:blipFill>
        <p:spPr>
          <a:xfrm>
            <a:off x="7451640" y="0"/>
            <a:ext cx="1516320" cy="19969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4" descr="8N43CA2WYQG9CAFQBOAFCA8U4R9NCA7TDKD8CA50HJSDCAQ985DXCAYV4NRZCA3S35C8CASZKOEUCA4VS5OJCACHD3DNCANJNM4NCA0C0SH3CANFQVURCAPCVETHCA19K2WMCAFGIQD6CAQR0SSSCAU29VUP.jpg"/>
          <p:cNvPicPr/>
          <p:nvPr/>
        </p:nvPicPr>
        <p:blipFill>
          <a:blip r:embed="rId2"/>
          <a:stretch/>
        </p:blipFill>
        <p:spPr>
          <a:xfrm>
            <a:off x="179280" y="189000"/>
            <a:ext cx="1474920" cy="13683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D2WDCA7L7S5NCAXOBO0WCA8FQWIVCA39PDJ2CA11AQE7CAPVBQFNCA3AOS6VCAX1X4I5CATI77TKCARSUQB2CAPE67R9CAXFCWV7CAQ4819LCA474QSECA9AHIBACA13GVVVCA5VVYASCAIXCP6PCA3TONBC.jpg"/>
          <p:cNvPicPr/>
          <p:nvPr/>
        </p:nvPicPr>
        <p:blipFill>
          <a:blip r:embed="rId3"/>
          <a:stretch/>
        </p:blipFill>
        <p:spPr>
          <a:xfrm>
            <a:off x="7093080" y="4300560"/>
            <a:ext cx="151740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46c0a"/>
                </a:solidFill>
                <a:latin typeface="Georgia"/>
              </a:rPr>
              <a:t>Regulatio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Drinking yogurt-------yogurt produc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Flavoured fermented milk-------not contain more than 15% of frui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milk protein in fermented milk and yogurt &gt;2.7%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Milk fat in fermented milk &lt;10% and &lt;15% in yogur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Acidity (expressed as the percentage of lactic acid) of fermented milk &gt;0.3% and 0.6% in yogur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Sum of the microorganisms constituting started culture &gt; 10</a:t>
            </a:r>
            <a:r>
              <a:rPr b="0" lang="en-GB" sz="2700" spc="-1" strike="noStrike" baseline="30000">
                <a:solidFill>
                  <a:srgbClr val="000000"/>
                </a:solidFill>
                <a:latin typeface="Georgia"/>
              </a:rPr>
              <a:t>7</a:t>
            </a: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in both fermented milk and yogu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46c0a"/>
                </a:solidFill>
                <a:latin typeface="Georgia"/>
              </a:rPr>
              <a:t>Regulatio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4f81bd"/>
                </a:solidFill>
                <a:uFillTx/>
                <a:latin typeface="Georgia"/>
              </a:rPr>
              <a:t>Pasteuriz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emperature&gt;71.7°C for 15 seconds 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&gt;62.8°C for 30 minutes then cooled to 10°C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4f81bd"/>
                </a:solidFill>
                <a:uFillTx/>
                <a:latin typeface="Georgia"/>
              </a:rPr>
              <a:t>Label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list of ingredients.  Food Labelling regulation (1996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llergies Information :milk ,so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2_tuchenhagen_new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3"/>
          <p:cNvSpPr/>
          <p:nvPr/>
        </p:nvSpPr>
        <p:spPr>
          <a:xfrm>
            <a:off x="685800" y="1219320"/>
            <a:ext cx="7924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方正舒体"/>
              </a:rPr>
              <a:t>食品工厂设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4" descr="desig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5"/>
          <p:cNvSpPr/>
          <p:nvPr/>
        </p:nvSpPr>
        <p:spPr>
          <a:xfrm>
            <a:off x="611280" y="7650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77933c"/>
                </a:solidFill>
                <a:latin typeface="Georgia"/>
                <a:ea typeface="方正舒体"/>
              </a:rPr>
              <a:t>Factory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1216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46c0a"/>
                </a:solidFill>
                <a:latin typeface="Georgia"/>
              </a:rPr>
              <a:t>Outline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24000" y="1341360"/>
            <a:ext cx="8650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Process  and equipment flowcharts for both laboratory and industrial scal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Factory layout for the production proc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Design experiments for conducting product &amp; process optimisation (Screening + Optimisatio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nduct sensory consumer &amp; descriptive analys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pecify product &amp; process formulations and determine whether are in compliance with relevant legisla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</a:rPr>
              <a:t>Factory Layout Desig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50920" y="141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sure appropriate layout to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y with Accreditation Standard requirem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gislative requirem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fficient utilisation of resourc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e46c0a"/>
                </a:solidFill>
                <a:latin typeface="Georgia"/>
                <a:ea typeface="方正舒体"/>
              </a:rPr>
              <a:t>Plan of layout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Raw material warehou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Production are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Packaging worksh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Refrigeration pla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Laborato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Locker room and toile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Electricity substation room and machine repair sh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Reserving are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图片 1" descr="layout desig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300" spc="-1" strike="noStrike">
                <a:solidFill>
                  <a:srgbClr val="e46c0a"/>
                </a:solidFill>
                <a:latin typeface="Georgia"/>
                <a:ea typeface="方正舒体"/>
              </a:rPr>
              <a:t>Important point for layout design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250560" y="1341000"/>
            <a:ext cx="8569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700" spc="-1" strike="noStrike">
                <a:solidFill>
                  <a:srgbClr val="000000"/>
                </a:solidFill>
                <a:latin typeface="Georgia"/>
                <a:ea typeface="方正舒体"/>
              </a:rPr>
              <a:t>All functions should processed with no criss-crossing and backtrac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700" spc="-1" strike="noStrike">
                <a:solidFill>
                  <a:srgbClr val="000000"/>
                </a:solidFill>
                <a:latin typeface="Georgia"/>
                <a:ea typeface="方正舒体"/>
              </a:rPr>
              <a:t>Visitors should move from clean to unclean area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700" spc="-1" strike="noStrike">
                <a:solidFill>
                  <a:srgbClr val="000000"/>
                </a:solidFill>
                <a:latin typeface="Georgia"/>
                <a:ea typeface="方正舒体"/>
              </a:rPr>
              <a:t>Ingredients should move from dirty and clean areas as they become incorporated into food produc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700" spc="-1" strike="noStrike">
                <a:solidFill>
                  <a:srgbClr val="000000"/>
                </a:solidFill>
                <a:latin typeface="Georgia"/>
                <a:ea typeface="方正舒体"/>
              </a:rPr>
              <a:t>Conditioned air and drainage should flow from clean to dirty area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700" spc="-1" strike="noStrike">
                <a:solidFill>
                  <a:srgbClr val="000000"/>
                </a:solidFill>
                <a:latin typeface="Georgia"/>
                <a:ea typeface="方正舒体"/>
              </a:rPr>
              <a:t>The flow of discarded outer packing material should not cross the flow of produc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700" spc="-1" strike="noStrike">
                <a:solidFill>
                  <a:srgbClr val="000000"/>
                </a:solidFill>
                <a:latin typeface="Georgia"/>
                <a:ea typeface="方正舒体"/>
              </a:rPr>
              <a:t>There is sufficient space for plant operations including processing,cleaning and maintenance Space is also required for movement of materials and pedestria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  <a:ea typeface="方正舒体"/>
              </a:rPr>
              <a:t>Experiment design and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  <a:ea typeface="方正舒体"/>
              </a:rPr>
              <a:t>screening result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534520" cy="7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Product acceptability and preference </a:t>
            </a:r>
            <a:br>
              <a:rPr sz="3200"/>
            </a:b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experiment design</a:t>
            </a:r>
            <a:br>
              <a:rPr sz="3000"/>
            </a:br>
            <a:endParaRPr b="0" lang="en-US" sz="32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24000" y="134136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80000"/>
              </a:lnSpc>
              <a:spcBef>
                <a:spcPts val="2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Preference test using </a:t>
            </a:r>
            <a:r>
              <a:rPr b="0" lang="en-US" sz="1900" spc="-1" strike="noStrike" u="sng">
                <a:solidFill>
                  <a:srgbClr val="e46c0a"/>
                </a:solidFill>
                <a:uFillTx/>
                <a:latin typeface="Georgia"/>
              </a:rPr>
              <a:t>9-point hedonic scale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Number of assessors was determined by using </a:t>
            </a:r>
            <a:r>
              <a:rPr b="0" lang="en-US" sz="1900" spc="-1" strike="noStrike">
                <a:solidFill>
                  <a:srgbClr val="e46c0a"/>
                </a:solidFill>
                <a:latin typeface="Georgia"/>
              </a:rPr>
              <a:t>complete block design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he questionnaire was designed using the Compusense fiv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ample portions: of 30mL ,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  <a:ea typeface="方正舒体"/>
              </a:rPr>
              <a:t>at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en-US" sz="19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C in clear plastic glasses assigned a three- digit random numbe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amples were presented in balance, random order according to randomised block design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ll samples prepared the same day of the test, with same way, same raw materials , same condition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Product acceptability and preference experiment design</a:t>
            </a:r>
            <a:br>
              <a:rPr sz="3800"/>
            </a:br>
            <a:endParaRPr b="0" lang="en-US" sz="32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68000" y="1197000"/>
            <a:ext cx="8280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eference test with 9-point hedonic scale was conduct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number of assessors was determined by using completed block desig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the questionnaire was designed using the compusense fiv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sample portions of 30 ml were served at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 in clear plastic cup assigned a three-digit random numbe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samples were presented in balance, random order according to block desig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all samples were prepared on the same day of the test, with the same way, using the same raw materials and under the same condition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方正舒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矩形 3"/>
          <p:cNvSpPr/>
          <p:nvPr/>
        </p:nvSpPr>
        <p:spPr>
          <a:xfrm>
            <a:off x="2977560" y="5732640"/>
            <a:ext cx="331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Table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. The 9-point hedonic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324000" y="4797360"/>
          <a:ext cx="8496000" cy="792360"/>
        </p:xfrm>
        <a:graphic>
          <a:graphicData uri="http://schemas.openxmlformats.org/drawingml/2006/table">
            <a:tbl>
              <a:tblPr/>
              <a:tblGrid>
                <a:gridCol w="1065240"/>
                <a:gridCol w="1095120"/>
                <a:gridCol w="851040"/>
                <a:gridCol w="852480"/>
                <a:gridCol w="979560"/>
                <a:gridCol w="819000"/>
                <a:gridCol w="942840"/>
                <a:gridCol w="912960"/>
                <a:gridCol w="977760"/>
              </a:tblGrid>
              <a:tr h="26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2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islike extre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islike very m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islike 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islike slight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 like or disli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ke slight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ke 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ke very m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ke extre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34160" cy="7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Georgia"/>
              </a:rPr>
              <a:t>Product acceptability and preference experiment design</a:t>
            </a:r>
            <a:br>
              <a:rPr sz="3200"/>
            </a:br>
            <a:endParaRPr b="0" lang="en-US" sz="3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741" name="Picture 2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565600" cy="1752840"/>
          </a:xfrm>
          <a:prstGeom prst="rect">
            <a:avLst/>
          </a:prstGeom>
          <a:ln w="0">
            <a:noFill/>
          </a:ln>
        </p:spPr>
      </p:pic>
      <p:sp>
        <p:nvSpPr>
          <p:cNvPr id="742" name="矩形 23"/>
          <p:cNvSpPr/>
          <p:nvPr/>
        </p:nvSpPr>
        <p:spPr>
          <a:xfrm>
            <a:off x="214200" y="4005360"/>
            <a:ext cx="8785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Georgia"/>
              </a:rPr>
              <a:t>16 samples: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LLLL, LLLH, LLHL, LLHH, LHLL, LHLH, LHHL, LH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LLL, HLLH, HLHL, HLHH, HHLL, HHLH, HHHL, HH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valuated for </a:t>
            </a:r>
            <a:r>
              <a:rPr b="0" lang="en-US" sz="2000" spc="-1" strike="noStrike">
                <a:solidFill>
                  <a:srgbClr val="e46c0a"/>
                </a:solidFill>
                <a:latin typeface="Georgia"/>
              </a:rPr>
              <a:t>overall accept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Georgia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untrained 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 </a:t>
            </a:r>
            <a:r>
              <a:rPr b="0" lang="en-US" sz="1800" spc="-1" strike="noStrike">
                <a:solidFill>
                  <a:srgbClr val="e46c0a"/>
                </a:solidFill>
                <a:latin typeface="Georgia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sessions (8 samples/se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"/>
          <p:cNvSpPr/>
          <p:nvPr/>
        </p:nvSpPr>
        <p:spPr>
          <a:xfrm>
            <a:off x="2464560" y="3573720"/>
            <a:ext cx="42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Table 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Screening experiment: factors’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968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Georgia"/>
              </a:rPr>
              <a:t>Product acceptability and preference experiment design</a:t>
            </a:r>
            <a:endParaRPr b="0" lang="en-US" sz="3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745" name="Picture 2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381800" cy="1584360"/>
          </a:xfrm>
          <a:prstGeom prst="rect">
            <a:avLst/>
          </a:prstGeom>
          <a:ln w="0">
            <a:noFill/>
          </a:ln>
        </p:spPr>
      </p:pic>
      <p:sp>
        <p:nvSpPr>
          <p:cNvPr id="746" name="矩形 2"/>
          <p:cNvSpPr/>
          <p:nvPr/>
        </p:nvSpPr>
        <p:spPr>
          <a:xfrm>
            <a:off x="1835280" y="378936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ptimisation experiment, factors’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3"/>
          <p:cNvSpPr/>
          <p:nvPr/>
        </p:nvSpPr>
        <p:spPr>
          <a:xfrm>
            <a:off x="900000" y="465300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7709"/>
                </a:solidFill>
                <a:latin typeface="Georgia"/>
              </a:rPr>
              <a:t>9 samples: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L, LM, LH, ML, MM, MH, HL, HM, 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ined by </a:t>
            </a:r>
            <a:r>
              <a:rPr b="0" lang="en-US" sz="2000" spc="-1" strike="noStrike">
                <a:solidFill>
                  <a:srgbClr val="e57709"/>
                </a:solidFill>
                <a:latin typeface="Georgia"/>
              </a:rPr>
              <a:t>54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untrained 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7709"/>
                </a:solidFill>
                <a:latin typeface="Georgia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</a:rPr>
              <a:t>Screening results analysis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749" name="内容占位符 4" descr="未命名.jpg"/>
          <p:cNvPicPr/>
          <p:nvPr/>
        </p:nvPicPr>
        <p:blipFill>
          <a:blip r:embed="rId1"/>
          <a:stretch/>
        </p:blipFill>
        <p:spPr>
          <a:xfrm>
            <a:off x="1816200" y="1484280"/>
            <a:ext cx="5111640" cy="337824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2"/>
          <p:cNvSpPr/>
          <p:nvPr/>
        </p:nvSpPr>
        <p:spPr>
          <a:xfrm>
            <a:off x="250920" y="484092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For all attributes ,for overall acceptabilit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assessors prefer: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  <a:ea typeface="SimSun"/>
              </a:rPr>
              <a:t>low kiw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%, 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  <a:ea typeface="SimSun"/>
              </a:rPr>
              <a:t>low cow’s yoghur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% 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  <a:ea typeface="SimSun"/>
              </a:rPr>
              <a:t>,hig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% of 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  <a:ea typeface="SimSun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250920" y="55598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Assessors respon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shows that the products with 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  <a:ea typeface="SimSun"/>
              </a:rPr>
              <a:t>best sweetnes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are those with 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  <a:ea typeface="SimSun"/>
              </a:rPr>
              <a:t>midd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% of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97909"/>
                </a:solidFill>
                <a:latin typeface="Georgia"/>
              </a:rPr>
              <a:t>Laboratory  Process Flowchart</a:t>
            </a:r>
            <a:endParaRPr b="0" lang="en-US" sz="44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22" name="Picture 2" descr="tofuYogurtKiwi.jpg"/>
          <p:cNvPicPr/>
          <p:nvPr/>
        </p:nvPicPr>
        <p:blipFill>
          <a:blip r:embed="rId1"/>
          <a:stretch/>
        </p:blipFill>
        <p:spPr>
          <a:xfrm>
            <a:off x="3635280" y="3860640"/>
            <a:ext cx="1790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7709"/>
                </a:solidFill>
                <a:latin typeface="Georgia"/>
              </a:rPr>
              <a:t>      </a:t>
            </a:r>
            <a:r>
              <a:rPr b="0" lang="en-US" sz="4400" spc="-1" strike="noStrike">
                <a:solidFill>
                  <a:srgbClr val="e57709"/>
                </a:solidFill>
                <a:latin typeface="Georgia"/>
              </a:rPr>
              <a:t>Optimization results analysi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</a:rPr>
              <a:t>Optimization result analysis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755" name="内容占位符 3" descr="overall 2.png"/>
          <p:cNvPicPr/>
          <p:nvPr/>
        </p:nvPicPr>
        <p:blipFill>
          <a:blip r:embed="rId1"/>
          <a:stretch/>
        </p:blipFill>
        <p:spPr>
          <a:xfrm>
            <a:off x="1044720" y="1600200"/>
            <a:ext cx="7054560" cy="377352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1"/>
          <p:cNvSpPr/>
          <p:nvPr/>
        </p:nvSpPr>
        <p:spPr>
          <a:xfrm>
            <a:off x="855000" y="5517720"/>
            <a:ext cx="71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SimSun"/>
              </a:rPr>
              <a:t>Figure 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SimSun"/>
              </a:rPr>
              <a:t>. Response surface plot for Kiwi flavor, (X1= % cow’s yogurt, X2=% kiwi ju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46c0a"/>
                </a:solidFill>
                <a:latin typeface="Georgia"/>
              </a:rPr>
              <a:t>Optimization results analysis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758" name="内容占位符 3" descr="3D-2.png"/>
          <p:cNvPicPr/>
          <p:nvPr/>
        </p:nvPicPr>
        <p:blipFill>
          <a:blip r:embed="rId1"/>
          <a:stretch/>
        </p:blipFill>
        <p:spPr>
          <a:xfrm>
            <a:off x="1044720" y="1600200"/>
            <a:ext cx="7054560" cy="3773520"/>
          </a:xfrm>
          <a:prstGeom prst="rect">
            <a:avLst/>
          </a:prstGeom>
          <a:ln w="0">
            <a:noFill/>
          </a:ln>
        </p:spPr>
      </p:pic>
      <p:sp>
        <p:nvSpPr>
          <p:cNvPr id="759" name="矩形 4"/>
          <p:cNvSpPr/>
          <p:nvPr/>
        </p:nvSpPr>
        <p:spPr>
          <a:xfrm>
            <a:off x="684360" y="5300640"/>
            <a:ext cx="82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sponse surface plot for milk flavor, (X1= % cow’s yogurt, X2=% kiwi juice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</a:rPr>
              <a:t>Optimization results analysis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761" name="内容占位符 3" descr="3D after remove.png"/>
          <p:cNvPicPr/>
          <p:nvPr/>
        </p:nvPicPr>
        <p:blipFill>
          <a:blip r:embed="rId1"/>
          <a:stretch/>
        </p:blipFill>
        <p:spPr>
          <a:xfrm>
            <a:off x="1000080" y="1569960"/>
            <a:ext cx="7053480" cy="3629160"/>
          </a:xfrm>
          <a:prstGeom prst="rect">
            <a:avLst/>
          </a:prstGeom>
          <a:ln w="0">
            <a:noFill/>
          </a:ln>
        </p:spPr>
      </p:pic>
      <p:sp>
        <p:nvSpPr>
          <p:cNvPr id="762" name="Rectangle 1"/>
          <p:cNvSpPr/>
          <p:nvPr/>
        </p:nvSpPr>
        <p:spPr>
          <a:xfrm>
            <a:off x="567000" y="5229720"/>
            <a:ext cx="79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SimSun"/>
              </a:rPr>
              <a:t>Figure 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SimSun"/>
              </a:rPr>
              <a:t>. Response surface plot for overall acceptability, (X1= % cow’s yogurt, X2=% kiwi ju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5"/>
          <p:cNvSpPr/>
          <p:nvPr/>
        </p:nvSpPr>
        <p:spPr>
          <a:xfrm>
            <a:off x="1187280" y="56610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est formulation for percentage of kiwi juice and cow’s yogurt is at </a:t>
            </a:r>
            <a:r>
              <a:rPr b="0" lang="en-US" sz="1800" spc="-1" strike="noStrike">
                <a:solidFill>
                  <a:srgbClr val="e46c0a"/>
                </a:solidFill>
                <a:latin typeface="Georgia"/>
              </a:rPr>
              <a:t>14.5%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0" lang="en-US" sz="1800" spc="-1" strike="noStrike">
                <a:solidFill>
                  <a:srgbClr val="e46c0a"/>
                </a:solidFill>
                <a:latin typeface="Georgia"/>
              </a:rPr>
              <a:t>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7709"/>
                </a:solidFill>
                <a:latin typeface="Georgia"/>
              </a:rPr>
              <a:t>Product formulation and Process specification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  <a:ea typeface="方正舒体"/>
              </a:rPr>
              <a:t>Raw material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767" name="内容占位符 3" descr=""/>
          <p:cNvPicPr/>
          <p:nvPr/>
        </p:nvPicPr>
        <p:blipFill>
          <a:blip r:embed="rId1"/>
          <a:stretch/>
        </p:blipFill>
        <p:spPr>
          <a:xfrm>
            <a:off x="1328760" y="1700280"/>
            <a:ext cx="6248520" cy="3262320"/>
          </a:xfrm>
          <a:prstGeom prst="rect">
            <a:avLst/>
          </a:prstGeom>
          <a:ln w="0">
            <a:noFill/>
          </a:ln>
        </p:spPr>
      </p:pic>
      <p:sp>
        <p:nvSpPr>
          <p:cNvPr id="768" name="矩形 4"/>
          <p:cNvSpPr/>
          <p:nvPr/>
        </p:nvSpPr>
        <p:spPr>
          <a:xfrm>
            <a:off x="2347920" y="5084640"/>
            <a:ext cx="409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ble 4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Raw material specification for lab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46c0a"/>
                </a:solidFill>
                <a:latin typeface="Georgia"/>
                <a:ea typeface="方正舒体"/>
              </a:rPr>
              <a:t>Process specificatio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94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Hygie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Microbiological and chemical paramet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46c0a"/>
                </a:solidFill>
                <a:latin typeface="Georgia"/>
              </a:rPr>
              <a:t>Product specificatio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39280" y="15573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Raw material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pH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S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emperatur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% of fa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SNF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46c0a"/>
                </a:solidFill>
                <a:latin typeface="Georgia"/>
              </a:rPr>
              <a:t>Packaging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5" name="Rounded Rectangle 3"/>
          <p:cNvSpPr/>
          <p:nvPr/>
        </p:nvSpPr>
        <p:spPr>
          <a:xfrm>
            <a:off x="684360" y="2060640"/>
            <a:ext cx="1584000" cy="79200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ounded Rectangle 4"/>
          <p:cNvSpPr/>
          <p:nvPr/>
        </p:nvSpPr>
        <p:spPr>
          <a:xfrm>
            <a:off x="3635280" y="2060640"/>
            <a:ext cx="1873440" cy="79200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ounded Rectangle 5"/>
          <p:cNvSpPr/>
          <p:nvPr/>
        </p:nvSpPr>
        <p:spPr>
          <a:xfrm>
            <a:off x="6732720" y="1989000"/>
            <a:ext cx="15843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Tert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Down Arrow 9"/>
          <p:cNvSpPr/>
          <p:nvPr/>
        </p:nvSpPr>
        <p:spPr>
          <a:xfrm>
            <a:off x="1332000" y="2924280"/>
            <a:ext cx="360360" cy="4334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Down Arrow 10"/>
          <p:cNvSpPr/>
          <p:nvPr/>
        </p:nvSpPr>
        <p:spPr>
          <a:xfrm>
            <a:off x="7380360" y="2924280"/>
            <a:ext cx="360360" cy="4334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Down Arrow 11"/>
          <p:cNvSpPr/>
          <p:nvPr/>
        </p:nvSpPr>
        <p:spPr>
          <a:xfrm>
            <a:off x="4427640" y="2997360"/>
            <a:ext cx="431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12"/>
          <p:cNvSpPr/>
          <p:nvPr/>
        </p:nvSpPr>
        <p:spPr>
          <a:xfrm>
            <a:off x="684360" y="4076640"/>
            <a:ext cx="1655640" cy="1081080"/>
          </a:xfrm>
          <a:prstGeom prst="ellipse">
            <a:avLst/>
          </a:prstGeom>
          <a:solidFill>
            <a:srgbClr val="d2cddc"/>
          </a:solidFill>
          <a:ln w="9360">
            <a:solidFill>
              <a:srgbClr val="8064a2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250 ml P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13"/>
          <p:cNvSpPr/>
          <p:nvPr/>
        </p:nvSpPr>
        <p:spPr>
          <a:xfrm>
            <a:off x="3851280" y="4005360"/>
            <a:ext cx="1873080" cy="1152360"/>
          </a:xfrm>
          <a:prstGeom prst="ellipse">
            <a:avLst/>
          </a:prstGeom>
          <a:solidFill>
            <a:srgbClr val="d2cddc"/>
          </a:solidFill>
          <a:ln w="9360">
            <a:solidFill>
              <a:srgbClr val="8064a2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ar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14"/>
          <p:cNvSpPr/>
          <p:nvPr/>
        </p:nvSpPr>
        <p:spPr>
          <a:xfrm>
            <a:off x="6875640" y="3860640"/>
            <a:ext cx="1584000" cy="1224000"/>
          </a:xfrm>
          <a:prstGeom prst="ellipse">
            <a:avLst/>
          </a:prstGeom>
          <a:solidFill>
            <a:srgbClr val="d2cddc"/>
          </a:solidFill>
          <a:ln w="9360">
            <a:solidFill>
              <a:srgbClr val="8064a2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ight Arrow 15"/>
          <p:cNvSpPr/>
          <p:nvPr/>
        </p:nvSpPr>
        <p:spPr>
          <a:xfrm>
            <a:off x="2627280" y="4508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ight Arrow 16"/>
          <p:cNvSpPr/>
          <p:nvPr/>
        </p:nvSpPr>
        <p:spPr>
          <a:xfrm>
            <a:off x="6084720" y="4437000"/>
            <a:ext cx="432000" cy="28728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  <a:ea typeface="方正舒体"/>
              </a:rPr>
              <a:t>Conclusio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1199"/>
              </a:spcBef>
              <a:spcAft>
                <a:spcPts val="1199"/>
              </a:spcAft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escription of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rocess  and equipment flowcharts, and check if the production process is in compliance with relevant regul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1199"/>
              </a:spcBef>
              <a:spcAft>
                <a:spcPts val="1199"/>
              </a:spcAft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Factory layout design for the production proc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1199"/>
              </a:spcBef>
              <a:spcAft>
                <a:spcPts val="1199"/>
              </a:spcAft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nduct product acceptability and preference te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1199"/>
              </a:spcBef>
              <a:spcAft>
                <a:spcPts val="1199"/>
              </a:spcAft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Design experiments for conducting product &amp; process optimis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1199"/>
              </a:spcBef>
              <a:spcAft>
                <a:spcPts val="1199"/>
              </a:spcAft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Determine product formulations &amp; the process formul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e97909"/>
                </a:solidFill>
                <a:latin typeface="Georgia"/>
              </a:rPr>
              <a:t>Laboratory  </a:t>
            </a:r>
            <a:r>
              <a:rPr b="0" lang="en-GB" sz="3300" spc="-1" strike="noStrike">
                <a:solidFill>
                  <a:srgbClr val="e46c0a"/>
                </a:solidFill>
                <a:latin typeface="Georgia"/>
              </a:rPr>
              <a:t>Process</a:t>
            </a:r>
            <a:r>
              <a:rPr b="0" lang="en-GB" sz="3300" spc="-1" strike="noStrike">
                <a:solidFill>
                  <a:srgbClr val="e97909"/>
                </a:solidFill>
                <a:latin typeface="Georgia"/>
              </a:rPr>
              <a:t> Flowchar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50560" y="1988640"/>
            <a:ext cx="850428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f6228"/>
                </a:solidFill>
                <a:latin typeface="Georgia"/>
              </a:rPr>
              <a:t>2 main process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25" name="Straight Arrow Connector 6"/>
          <p:cNvCxnSpPr/>
          <p:nvPr/>
        </p:nvCxnSpPr>
        <p:spPr>
          <a:xfrm flipH="1">
            <a:off x="3492000" y="2637000"/>
            <a:ext cx="504000" cy="505440"/>
          </a:xfrm>
          <a:prstGeom prst="straightConnector1">
            <a:avLst/>
          </a:prstGeom>
          <a:ln w="6336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626" name="Straight Arrow Connector 7"/>
          <p:cNvCxnSpPr/>
          <p:nvPr/>
        </p:nvCxnSpPr>
        <p:spPr>
          <a:xfrm>
            <a:off x="4716360" y="2636640"/>
            <a:ext cx="720000" cy="432360"/>
          </a:xfrm>
          <a:prstGeom prst="straightConnector1">
            <a:avLst/>
          </a:prstGeom>
          <a:ln w="63360">
            <a:solidFill>
              <a:srgbClr val="e46c0a"/>
            </a:solidFill>
            <a:miter/>
            <a:tailEnd len="med" type="arrow" w="med"/>
          </a:ln>
        </p:spPr>
      </p:cxnSp>
      <p:sp>
        <p:nvSpPr>
          <p:cNvPr id="627" name="Rounded Rectangle 15"/>
          <p:cNvSpPr/>
          <p:nvPr/>
        </p:nvSpPr>
        <p:spPr>
          <a:xfrm>
            <a:off x="1403280" y="3213000"/>
            <a:ext cx="2592360" cy="1079640"/>
          </a:xfrm>
          <a:prstGeom prst="roundRect">
            <a:avLst>
              <a:gd name="adj" fmla="val 16667"/>
            </a:avLst>
          </a:prstGeom>
          <a:solidFill>
            <a:srgbClr val="fbd8c8"/>
          </a:solidFill>
          <a:ln w="9360">
            <a:solidFill>
              <a:srgbClr val="f79646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6"/>
          <p:cNvSpPr/>
          <p:nvPr/>
        </p:nvSpPr>
        <p:spPr>
          <a:xfrm>
            <a:off x="5364000" y="3213000"/>
            <a:ext cx="28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Kiwi juice ext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ounded Rectangle 18"/>
          <p:cNvSpPr/>
          <p:nvPr/>
        </p:nvSpPr>
        <p:spPr>
          <a:xfrm>
            <a:off x="5435640" y="3213000"/>
            <a:ext cx="2592360" cy="1079640"/>
          </a:xfrm>
          <a:prstGeom prst="roundRect">
            <a:avLst>
              <a:gd name="adj" fmla="val 16667"/>
            </a:avLst>
          </a:prstGeom>
          <a:solidFill>
            <a:srgbClr val="fbd8c8"/>
          </a:solidFill>
          <a:ln w="9360">
            <a:solidFill>
              <a:srgbClr val="f79646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9"/>
          <p:cNvSpPr/>
          <p:nvPr/>
        </p:nvSpPr>
        <p:spPr>
          <a:xfrm>
            <a:off x="5508720" y="342900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iwi juice ex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21"/>
          <p:cNvSpPr/>
          <p:nvPr/>
        </p:nvSpPr>
        <p:spPr>
          <a:xfrm>
            <a:off x="1403280" y="3429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ogurt fer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0" descr="yogurt.jpg"/>
          <p:cNvPicPr/>
          <p:nvPr/>
        </p:nvPicPr>
        <p:blipFill>
          <a:blip r:embed="rId1"/>
          <a:stretch/>
        </p:blipFill>
        <p:spPr>
          <a:xfrm>
            <a:off x="3059280" y="4437000"/>
            <a:ext cx="1584000" cy="1800360"/>
          </a:xfrm>
          <a:prstGeom prst="rect">
            <a:avLst/>
          </a:prstGeom>
          <a:ln w="0">
            <a:noFill/>
          </a:ln>
        </p:spPr>
      </p:pic>
      <p:sp>
        <p:nvSpPr>
          <p:cNvPr id="633" name="Plus 11"/>
          <p:cNvSpPr/>
          <p:nvPr/>
        </p:nvSpPr>
        <p:spPr>
          <a:xfrm>
            <a:off x="2268360" y="4581360"/>
            <a:ext cx="719280" cy="648000"/>
          </a:xfrm>
          <a:custGeom>
            <a:avLst/>
            <a:gdLst>
              <a:gd name="textAreaLeft" fmla="*/ 95040 w 719280"/>
              <a:gd name="textAreaRight" fmla="*/ 624240 w 719280"/>
              <a:gd name="textAreaTop" fmla="*/ 247680 h 648000"/>
              <a:gd name="textAreaBottom" fmla="*/ 400320 h 648000"/>
            </a:gdLst>
            <a:ahLst/>
            <a:rect l="textAreaLeft" t="textAreaTop" r="textAreaRight" b="textAreaBottom"/>
            <a:pathLst>
              <a:path w="719137" h="647700">
                <a:moveTo>
                  <a:pt x="95322" y="247680"/>
                </a:moveTo>
                <a:lnTo>
                  <a:pt x="283399" y="247680"/>
                </a:lnTo>
                <a:lnTo>
                  <a:pt x="283399" y="85853"/>
                </a:lnTo>
                <a:lnTo>
                  <a:pt x="435738" y="85853"/>
                </a:lnTo>
                <a:lnTo>
                  <a:pt x="435738" y="247680"/>
                </a:lnTo>
                <a:lnTo>
                  <a:pt x="623815" y="247680"/>
                </a:lnTo>
                <a:lnTo>
                  <a:pt x="623815" y="400020"/>
                </a:lnTo>
                <a:lnTo>
                  <a:pt x="435738" y="400020"/>
                </a:lnTo>
                <a:lnTo>
                  <a:pt x="435738" y="561847"/>
                </a:lnTo>
                <a:lnTo>
                  <a:pt x="283399" y="561847"/>
                </a:lnTo>
                <a:lnTo>
                  <a:pt x="283399" y="400020"/>
                </a:lnTo>
                <a:lnTo>
                  <a:pt x="95322" y="400020"/>
                </a:lnTo>
                <a:close/>
              </a:path>
            </a:pathLst>
          </a:custGeom>
          <a:solidFill>
            <a:srgbClr val="4f81bd"/>
          </a:solidFill>
          <a:ln w="11520">
            <a:solidFill>
              <a:srgbClr val="385d8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13" descr="alpro.jpg"/>
          <p:cNvPicPr/>
          <p:nvPr/>
        </p:nvPicPr>
        <p:blipFill>
          <a:blip r:embed="rId2"/>
          <a:stretch/>
        </p:blipFill>
        <p:spPr>
          <a:xfrm>
            <a:off x="250920" y="4437000"/>
            <a:ext cx="2017440" cy="19051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4" descr="kiwis_small.jpg"/>
          <p:cNvPicPr/>
          <p:nvPr/>
        </p:nvPicPr>
        <p:blipFill>
          <a:blip r:embed="rId3"/>
          <a:stretch/>
        </p:blipFill>
        <p:spPr>
          <a:xfrm>
            <a:off x="5580000" y="4437000"/>
            <a:ext cx="2376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97909"/>
                </a:solidFill>
                <a:latin typeface="Georgia"/>
              </a:rPr>
              <a:t>Plan of actio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301680" y="1557360"/>
            <a:ext cx="8504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7933c"/>
                </a:solidFill>
                <a:latin typeface="Georg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92" name="Picture 3" descr="St.Patricks Day Shamrock Smoothies_2380688981.jpg"/>
          <p:cNvPicPr/>
          <p:nvPr/>
        </p:nvPicPr>
        <p:blipFill>
          <a:blip r:embed="rId1"/>
          <a:stretch/>
        </p:blipFill>
        <p:spPr>
          <a:xfrm>
            <a:off x="2916360" y="3141720"/>
            <a:ext cx="3456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</a:rPr>
              <a:t>Laboratory Process Flowchart – </a:t>
            </a:r>
            <a:r>
              <a:rPr b="0" i="1" lang="en-US" sz="3600" spc="-1" strike="noStrike">
                <a:solidFill>
                  <a:srgbClr val="e46c0a"/>
                </a:solidFill>
                <a:latin typeface="Georgia"/>
              </a:rPr>
              <a:t>Yogurt Fermentatio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37" name="Content Placeholder 3" descr=""/>
          <p:cNvPicPr/>
          <p:nvPr/>
        </p:nvPicPr>
        <p:blipFill>
          <a:blip r:embed="rId1"/>
          <a:stretch/>
        </p:blipFill>
        <p:spPr>
          <a:xfrm>
            <a:off x="237960" y="1523880"/>
            <a:ext cx="8631360" cy="4584960"/>
          </a:xfrm>
          <a:prstGeom prst="rect">
            <a:avLst/>
          </a:prstGeom>
          <a:ln w="0">
            <a:noFill/>
          </a:ln>
        </p:spPr>
      </p:pic>
      <p:sp>
        <p:nvSpPr>
          <p:cNvPr id="638" name="Right Arrow 4"/>
          <p:cNvSpPr/>
          <p:nvPr/>
        </p:nvSpPr>
        <p:spPr>
          <a:xfrm>
            <a:off x="8388360" y="292428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57709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600" spc="-1" strike="noStrike">
                <a:solidFill>
                  <a:srgbClr val="e46c0a"/>
                </a:solidFill>
                <a:latin typeface="Georgia"/>
              </a:rPr>
              <a:t>Laboratory Process Flowchart – </a:t>
            </a:r>
            <a:r>
              <a:rPr b="0" i="1" lang="en-US" sz="3600" spc="-1" strike="noStrike">
                <a:solidFill>
                  <a:srgbClr val="e46c0a"/>
                </a:solidFill>
                <a:latin typeface="Georgia"/>
              </a:rPr>
              <a:t>Yogurt Fermentation</a:t>
            </a:r>
            <a:br>
              <a:rPr sz="3000"/>
            </a:b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40" name="Content Placeholder 3" descr=""/>
          <p:cNvPicPr/>
          <p:nvPr/>
        </p:nvPicPr>
        <p:blipFill>
          <a:blip r:embed="rId1"/>
          <a:stretch/>
        </p:blipFill>
        <p:spPr>
          <a:xfrm>
            <a:off x="401760" y="1620720"/>
            <a:ext cx="8254800" cy="4200480"/>
          </a:xfrm>
          <a:prstGeom prst="rect">
            <a:avLst/>
          </a:prstGeom>
          <a:ln w="0">
            <a:noFill/>
          </a:ln>
        </p:spPr>
      </p:pic>
      <p:sp>
        <p:nvSpPr>
          <p:cNvPr id="641" name="Right Arrow 4"/>
          <p:cNvSpPr/>
          <p:nvPr/>
        </p:nvSpPr>
        <p:spPr>
          <a:xfrm>
            <a:off x="8604360" y="299736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57709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ight Arrow 5"/>
          <p:cNvSpPr/>
          <p:nvPr/>
        </p:nvSpPr>
        <p:spPr>
          <a:xfrm>
            <a:off x="179280" y="299736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57709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</a:rPr>
              <a:t>Laboratory Process Flowchart – </a:t>
            </a:r>
            <a:r>
              <a:rPr b="0" i="1" lang="en-US" sz="3600" spc="-1" strike="noStrike">
                <a:solidFill>
                  <a:srgbClr val="e46c0a"/>
                </a:solidFill>
                <a:latin typeface="Georgia"/>
              </a:rPr>
              <a:t>Kiwi juice extractio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44" name="Content Placeholder 3" descr=""/>
          <p:cNvPicPr/>
          <p:nvPr/>
        </p:nvPicPr>
        <p:blipFill>
          <a:blip r:embed="rId1"/>
          <a:stretch/>
        </p:blipFill>
        <p:spPr>
          <a:xfrm>
            <a:off x="237960" y="1523880"/>
            <a:ext cx="8577360" cy="4584960"/>
          </a:xfrm>
          <a:prstGeom prst="rect">
            <a:avLst/>
          </a:prstGeom>
          <a:ln w="0">
            <a:noFill/>
          </a:ln>
        </p:spPr>
      </p:pic>
      <p:sp>
        <p:nvSpPr>
          <p:cNvPr id="645" name="TextBox 8"/>
          <p:cNvSpPr/>
          <p:nvPr/>
        </p:nvSpPr>
        <p:spPr>
          <a:xfrm>
            <a:off x="684360" y="2852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sh kiw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ight Arrow 10"/>
          <p:cNvSpPr/>
          <p:nvPr/>
        </p:nvSpPr>
        <p:spPr>
          <a:xfrm>
            <a:off x="8532720" y="292428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57709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46c0a"/>
                </a:solidFill>
                <a:latin typeface="Georgia"/>
              </a:rPr>
              <a:t>Laboratory Process Flowchart – </a:t>
            </a:r>
            <a:r>
              <a:rPr b="0" i="1" lang="en-US" sz="2900" spc="-1" strike="noStrike">
                <a:solidFill>
                  <a:srgbClr val="e46c0a"/>
                </a:solidFill>
                <a:latin typeface="Georgia"/>
              </a:rPr>
              <a:t>Kiwi juice extraction</a:t>
            </a:r>
            <a:endParaRPr b="0" lang="en-US" sz="29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48" name="Content Placeholder 3" descr=""/>
          <p:cNvPicPr/>
          <p:nvPr/>
        </p:nvPicPr>
        <p:blipFill>
          <a:blip r:embed="rId1"/>
          <a:stretch/>
        </p:blipFill>
        <p:spPr>
          <a:xfrm>
            <a:off x="237960" y="1523880"/>
            <a:ext cx="8631360" cy="4584960"/>
          </a:xfrm>
          <a:prstGeom prst="rect">
            <a:avLst/>
          </a:prstGeom>
          <a:ln w="0">
            <a:noFill/>
          </a:ln>
        </p:spPr>
      </p:pic>
      <p:sp>
        <p:nvSpPr>
          <p:cNvPr id="649" name="Right Arrow 5"/>
          <p:cNvSpPr/>
          <p:nvPr/>
        </p:nvSpPr>
        <p:spPr>
          <a:xfrm>
            <a:off x="368280" y="292428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97909"/>
          </a:solidFill>
          <a:ln w="11520">
            <a:solidFill>
              <a:srgbClr val="e979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ight Arrow 6"/>
          <p:cNvSpPr/>
          <p:nvPr/>
        </p:nvSpPr>
        <p:spPr>
          <a:xfrm>
            <a:off x="8317080" y="287640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97909"/>
          </a:solidFill>
          <a:ln w="11520">
            <a:solidFill>
              <a:srgbClr val="e979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23:56:15Z</dcterms:created>
  <dc:creator>merian</dc:creator>
  <dc:description/>
  <dc:language>en-US</dc:language>
  <cp:lastModifiedBy>MAPS Faculty</cp:lastModifiedBy>
  <dcterms:modified xsi:type="dcterms:W3CDTF">2011-07-08T09:21:24Z</dcterms:modified>
  <cp:revision>103</cp:revision>
  <dc:subject/>
  <dc:title>Yogurt based food: ‘Soy yogurt drink with kiwi Flavour’   Unit III: Defining product and process specifications</dc:title>
</cp:coreProperties>
</file>